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C38-E066-4604-BDCA-2AA046F8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8F1-2D67-4EF7-BB00-D783C1D6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1E7-79F0-4F9B-825E-BA8C606F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381-CD09-4882-BA24-DCCE17BC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BE8D-F16D-4746-87F2-1DF6F958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9A81-15B0-49B1-B7A4-3449B924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3CC-2198-4E41-9C2D-F2BFFB88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EA63-3CD9-4E19-AE5B-39458F32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EC82-92BE-4B47-997E-F274F0C4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55F9-64DA-4DFF-8A1A-FBCB779E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39DB-DCF6-4D90-8DF6-056263A3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81E-5A84-45DD-B0A7-E3E8A3DF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5472-944A-4BB4-86A1-2162D3AAC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Big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T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QUESTION of the WEE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   for February 1 - 5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362240" cy="1047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280" y="16765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sa Parks is recognized in black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refusing to give up her seat on a bu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tgomery in 1955.  Mrs. Parks was al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uthor.  What i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 of her memoi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shed in 199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6248520"/>
            <a:ext cx="137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oogle Images, 2010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952880" y="3541680"/>
            <a:ext cx="363564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01:52:30Z</dcterms:created>
  <dc:creator>Brian Hite</dc:creator>
  <dc:description/>
  <dc:language>en-US</dc:language>
  <cp:lastModifiedBy>Brian Hite</cp:lastModifiedBy>
  <cp:lastPrinted>2009-10-05T01:42:40Z</cp:lastPrinted>
  <dcterms:modified xsi:type="dcterms:W3CDTF">2010-02-01T03:40:18Z</dcterms:modified>
  <cp:revision>86</cp:revision>
  <dc:subject/>
  <dc:title>                 The Big6TM QUESTION of the WEEK              for September 15 - 19, 2008</dc:title>
</cp:coreProperties>
</file>